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906-9582-4118-B2E3-B77B469E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975-C385-42E1-9D6C-9DE71C41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76648-69C9-470F-894F-672994C1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40303-3FD4-4222-80DD-20CACECD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BB177-B248-4B75-AFD5-95455DB9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30026-E22A-45AF-A681-2B765A78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ADA3D-CA18-4B4D-A67E-B72E204F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19AEF-17B7-4345-B220-C7D8A715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36749-A96E-481B-BAC1-5E3197DA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40332-65FC-44EC-8411-45B6AB8C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AE1F2-033B-464C-8555-7284552A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53D67-7930-4FF4-955A-5D7B8778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850-C3A3-4450-9588-75D79243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79C6D-2C8C-421F-BBB8-3DAF4313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FEB80-3989-4770-8A13-485749EC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2561C-1983-47BB-8586-30E476E2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80E4C-8358-4D77-B995-2BB743EF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51711-0138-49C4-98C5-9B37A102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E9A51-A6AE-48B6-BC5F-4607C79A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A7390-6254-4C0B-AD71-B447BA42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6BC48-8DF7-4CBA-9FD2-A2B6A363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068FF-7979-4855-A08E-BC7F6300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947B0-E6CC-49E4-A751-F1B61CD0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2D1-85E6-4D5D-B865-BCAC4A00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B0D06-346B-434A-84A4-7664C800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BE855-ADE6-4272-833A-54DBC4ED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029B2-C815-4FAE-9200-17B19D0C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E3154-E09B-4AEF-A7AF-F2A013EB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E0ABB-8AA0-47EC-A067-6BC902A3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E738A-1D7C-4A60-9754-73614EF6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50B07-4AF3-4E32-8447-78BA5E3C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EDF70-3CF8-47C4-BE24-1BFBD474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58503-C829-4DA0-AF53-E6E6C52D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F8AC6-A377-4C34-B048-4414609C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503C-D609-49BF-A147-8FB70F83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02B71-472F-4160-84DA-646E0451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107C8-7A83-45DB-BBBA-54BF694E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79BD4-BB5C-4EC5-94B2-60CBF7A8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18133-CB0C-4412-B647-25001869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82EA9-0398-4031-BE5D-722E5ED3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F4438-325E-442F-B131-C5A25FCB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004EE-740B-443F-93F1-248E5D4E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059EB-6F2A-4620-9EAC-15E88366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F800B-E1E1-4C84-969E-753028AB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C0A5C-5DCB-4884-BC77-559B29DC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F62A-DE42-414A-A88D-3AA409CF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4B67A-9E81-46A0-B867-3C36ECD5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AAEA0-6406-4D1C-ACC7-6D7B57AB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74A84-C375-407D-9358-B3A62F91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BB0AE-F8F4-4F08-B88A-C27D6460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D2BE3-3B7E-4AD9-AD9F-559A0F3C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A1E3-B774-4876-ABF8-1BF9309A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93EB-DDE2-459C-A37B-C22B06E5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380C-7F57-4675-92E2-BB1B31BB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7B4E-5256-4EF4-9238-C11615F3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6DC4-9A08-41E8-AD50-1B5FA440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420C-7BCB-45EC-964D-9AE0DC8C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C71A-2690-47BC-824E-B3E83A31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930E-5E0E-4C12-ACF5-16697900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A547-D5C7-4057-8AFA-92324A4E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3A57-FFD2-46BB-A6E8-8DB7BEAE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87B6-9D96-4228-B19F-8F30B3D0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DD7CF-B232-4CDC-8AA1-1BBFA571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482CA-9BF6-4E97-9792-AC10126F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1352-83CF-4A2A-8E55-F0DF79D4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4BD9C-F212-4B86-BB79-1A382DBE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D48F3-5144-4DED-8238-A651A646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6A3-D197-4626-91FA-0DCE9D49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EBDF-6B59-404B-86EE-39C0F0D4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2A61A-5EAC-40FA-9F68-B66670BA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036A8-7CC4-494E-BBCF-63CBA0A0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372F7-C281-44DF-B0F8-240CCA66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9CC0C-A6A7-43CA-BB6C-BE1BA775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CCD73-A0B8-4EF8-8884-DD293AF0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01997-0BF1-44CD-BAA8-C768B16C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C54F1-8C82-496C-AD46-189B21CD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E9C57-9A21-455E-B12E-8DBFDFC7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ED475-DF4E-443C-AE8D-6620C398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341-5663-495D-8AFA-EB3A4F82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8461D-2117-4D3B-9D01-2172E603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C79D6-8E4E-4D6D-AEBB-C5D18CDE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43786-19C0-43CD-A410-4AFC2212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FCC03-6171-4E13-8DCD-4E6AA8CA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2FC9B-4307-474E-8CB5-372C170B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E02DC-2371-4369-A940-3DF9B017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7884A-7544-4C09-BE7F-124D19A6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DE17E-E153-4F7F-8332-1E03F52D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B75A9-6A8C-434F-A125-04B4D3F8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49036-11B1-47C7-A437-B0C471D8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D6F1-DF90-4A4B-AE85-376F89A8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C9985-C9FB-4D77-B638-36D8E1B5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83289-984D-4A90-98F2-E3C6F875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2C2B9-0320-4265-9676-E1D027C0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BC153-BFF5-4E8A-AF64-E48A3DFC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AA3C5-402A-4160-B860-9D2128FA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A5895-CB1C-48C6-8598-30AADC5B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CF6D3-0621-40B7-85A7-6EC2752D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B9463-3C96-4485-B334-652EC10E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00E23-4767-45A3-9C86-1737F5A8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C8D0A-09C5-4D30-9B3D-9A996DE8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4C3-C327-46F5-9A2A-D0435315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CE69D-0517-4369-986B-C881FA81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18FE3-551F-44F1-894B-FC02A280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B99E3-68F5-4874-91AD-1EC4CDAE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3FC29-1B52-4C8F-9053-627C1B87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0510C-D84A-49DE-B0B4-FF2B8D38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930F5-9C25-4E65-9231-25E55A30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B0C43-40B0-4F21-93F5-56933399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FAE2D-3DE7-403E-A9B7-E0532171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03F00-A26B-41CA-B96B-F95B4072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0D048-BFFE-41F1-9C10-09EE425B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72D-737A-4101-971A-0C253C67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E670B-B5CB-4A12-9D7A-A32E1FE3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2EE58-D909-4035-8F5E-ABB33E3D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CBBA9-8F34-4D82-AD3B-9ACFE957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716D2-E37D-46AE-90F3-0E4C48DF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C17B0-0B90-450F-A272-B642686B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82E73-3EAB-4ABE-835C-6DA53CB5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FAC04-A8B6-43C5-B982-81DE92E4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8FB2E-A64F-4BCA-8CA2-6EEBFB95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7589C-09E9-4935-8DD9-846FCE23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3A83C-6105-4466-8DE9-3E43F701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150-5A3D-4AE6-9A26-55FB99F0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2AB88-B8F8-41C8-9471-F48BAA41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EEC82-8617-44E1-B4F9-10CEEF25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6AA1A-F7F8-4984-A348-907EF781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C7691-6A1B-43D0-B564-732C1A9C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9B158-83A4-4FB7-BB0D-FFC327B4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8593C-121E-490E-840A-C56BD382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D86F4-D141-45AD-9F60-D806B701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0ED95-CEB5-40F9-8823-5A79C63E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7F935-9669-4E7C-9AF6-789E87AA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7F129-6DCF-4A4D-9B4E-68BE1161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16D-CF66-4600-B405-A3B2A26C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FAECB-69FD-4784-9F64-6629B821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1901A-59F2-41D6-AA82-FF3E1359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5823F-08EE-4F67-9CFA-8C519154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91F50-F0AC-4695-9E1B-84F817CD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ACF49-C73B-40CC-8CEE-E30FEE71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CDE72-2760-47C4-A6CB-C2CB368A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BDE7F-B5EC-482E-857E-486F8632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259F2-93F9-4F5B-B4A1-17E417EC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00F21-E71E-46D4-923F-83AA3B13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C534A-6952-468D-8656-FD7EEBE1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A1DD-CFE6-4818-9566-1B50464CD89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F185-BDCA-4F7D-B96A-14CD64659BC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AECA-78AC-44D6-A535-BC693DE62A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16E9-A852-4A64-B3A7-307D56FF68C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6C11-71B1-4001-A712-B2854E286D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D3AA-07F8-4EC9-99A3-C580BA5192C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F880-D3F3-44B8-87B6-25F03506DBC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65AB-1034-4A0F-B7EE-9C0B8E5DE6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FCD2-2E3B-4410-BACD-960732F14D2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BB65-FF5B-4060-8A14-D07A1DD918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50FD-E80F-4726-A3E0-3F960604D7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3ADA-9682-4926-A762-C31DB921971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04 Bohu máme vďaku vzdáv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u máme vďaku vzdá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nad nami strážne bde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že v svojom svätom Slo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javil svetu spás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u za to máme vzd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Pán Boh má ľudí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u máme vďaku vzdá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a s nami zhovár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ou svojou v Písme svät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y raj nám otvá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e slovo dáva zn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že Pán Boh má ľudí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u máme vďaku vzdá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zvesť jeho mi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prebúdza v srdci naš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vú pieseň vďa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ále máme zvest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Pán Boh má ľudí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u máme vďaku vzdá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nám myseľ zjasňu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to, čo nám dosiaľ zjav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ždy s láskou zjav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ci máme ďak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Pán Boh má ľudí rád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31T13:38:17Z</dcterms:modified>
  <cp:revision>21</cp:revision>
  <dc:subject/>
  <dc:title>Je veľký náš Pán, on slávy je Kráľ Nech do všetkých strán  spev vrúcnych znie chvál.</dc:title>
</cp:coreProperties>
</file>